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EA995-5D16-4D19-9725-546E99EF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F143-3B27-40D5-A286-3C04E682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CA127-A79E-4C4D-B406-7BA8EB467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4244-9403-46C4-B428-B97486FA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EB32-E83E-4500-93DD-C2E236E90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B330D-107A-4640-8849-3DB077497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F9183-AB94-450F-A105-05FDD134F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1ED5F-FEE0-419A-B7DA-3F1183F32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3A367-279E-4C72-8EB7-B5C1238DD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33D06-211E-46E8-B571-F191EED3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4C8C5-C28C-4E4F-BD4D-2CCB3F843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D45E-7EF0-4DB9-9F74-1314B91D4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C7ECD-D82C-41A0-BFDB-FB014CB5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22C7-2542-467C-BA58-8BFE5D267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1EC03-254C-4B4C-AC4F-C6157916F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B23A8-0D7B-4C41-9FF6-E041A4CAA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5596B-E74D-4FB3-A4B8-8DF4CC771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4535-6D4A-4201-87EE-5391C09B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B683A-C1AA-4FB5-AEDE-64B98F01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5285-6330-41F7-BEA0-0B8AAB53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69B88-DF96-487E-89EC-EF7DF8705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8446-BAA0-4757-96EB-0CB9E4EC6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877F-DA92-4666-8D41-F2B415AA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3140-22AF-43B8-B083-3062E7B9B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7044-3985-4D8E-B089-A58E47336A0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0231-5C0B-4408-B641-218BC0B8CC5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14200"/>
            <a:ext cx="8077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áu kỹ năng quan trọng nhất </a:t>
            </a:r>
            <a:br>
              <a:rPr sz="3200"/>
            </a:br>
            <a:r>
              <a:rPr b="0" lang="en-US" sz="3200" spc="-1" strike="noStrike">
                <a:solidFill>
                  <a:srgbClr val="333399"/>
                </a:solidFill>
                <a:latin typeface="Tahoma"/>
              </a:rPr>
              <a:t>trong bán hàng</a:t>
            </a:r>
            <a:endParaRPr b="0" lang="en-US" sz="32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ence – Khả năng truyền đạt nhiệt huyết, sự quan tâm và sức thuyết phục của nhân viên bán hàng đến khách hà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ng – Kỹ năng tạo ta mối liên hệ tốt với khách hà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 Kỹ năng đặt câu hỏ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ening- Kỹ năng lắng ngh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ing – Kỹ năng hướng sự quan tâm của khách hàng đến với những giá trị của sản phẩm mà có thể đáp ứng tốt nhất nhu cầu của h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hecking – Kỹ năng kiểm tra phản hồi của khách hàng</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ỹ năng kiểm tra phản hồi của khách hàng khi bán hàng</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ục tiêu</a:t>
            </a:r>
            <a:endParaRPr b="0" lang="en-US" sz="32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ào cuối phần này, bạn sẽ có th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ểu được tầm quan trọng của việc kiểm tra phản hồi của khách hàng trong bán hà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ận dụng có hiệu quả các chiến lược kiểm tra phản hồi của khách hàng để bán hàng thành cô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ì sao phải kiểm tra phản hồi của </a:t>
            </a:r>
            <a:br>
              <a:rPr sz="3200"/>
            </a:br>
            <a:r>
              <a:rPr b="0" lang="en-US" sz="3200" spc="-1" strike="noStrike">
                <a:solidFill>
                  <a:srgbClr val="333399"/>
                </a:solidFill>
                <a:latin typeface="Tahoma"/>
              </a:rPr>
              <a:t>khách hàng?</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nhân viên bán hàng đánh giá được tiến triển của cuộc nói chuyện với khách hàng, có được những thông tin cần thiết để định hướng việc bán hàng và đưa ra những điều chỉnh kịp thời.</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ánh được việc giả định rằng khách hàng đã hiểu và chấp nhận những gì bạn nói (im lặng không có nghĩa là đồng ý). </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ạo ra sự tương tác với khách hàng khi bán hàng, làm cho khách hàng cảm thấy mình được quan tâm, và hứng thú hơn với câu chuyện của người bán hàng.</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ì sao phải kiểm tra phản hồi của </a:t>
            </a:r>
            <a:br>
              <a:rPr sz="3200"/>
            </a:br>
            <a:r>
              <a:rPr b="0" lang="en-US" sz="3200" spc="-1" strike="noStrike">
                <a:solidFill>
                  <a:srgbClr val="333399"/>
                </a:solidFill>
                <a:latin typeface="Tahoma"/>
              </a:rPr>
              <a:t>khách hàng? (tiếp theo)</a:t>
            </a:r>
            <a:endParaRPr b="0" lang="en-US" sz="32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bạn chuyển tải thông điệp bán hàng đến khách hàng một cách tinh tế hơn, tạo cho bạn sự tự ti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bạn xác định được những khó khăn, trở ngại cũng như những cơ hội trong bán hàng để từ đó tập trung vào các cơ hộ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ết kiệm thời gian của cả hai phía khi bán hà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hững điểm cần lưu ý khi kiểm tra phản hồi của khách hàng</a:t>
            </a:r>
            <a:endParaRPr b="0" lang="en-US" sz="3200" spc="-1" strike="noStrike">
              <a:solidFill>
                <a:srgbClr val="333399"/>
              </a:solidFill>
              <a:latin typeface="Tahoma"/>
            </a:endParaRPr>
          </a:p>
        </p:txBody>
      </p:sp>
      <p:sp>
        <p:nvSpPr>
          <p:cNvPr id="110"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ên đặt câu hỏi mở thay vì đặt câu hỏi đó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phản hồi không phải là tóm tắt lại những thông tin mà bạn đã trình bày</a:t>
            </a:r>
            <a:endParaRPr b="0" lang="en-US" sz="2400" spc="-1" strike="noStrike">
              <a:solidFill>
                <a:srgbClr val="000000"/>
              </a:solidFill>
              <a:latin typeface="Tahoma"/>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ác chiến lược quan trọng để kiểm tra phản hồi của khách hàng</a:t>
            </a:r>
            <a:endParaRPr b="0" lang="en-US" sz="32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phản hồi của khách hàng ngay sau mỗi phần nội dung quan trọng mà bạn đã trình bà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ường xuyên sử dụng các câu hỏi kiểm tra phản hồi của khách hà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tính thực tế của mục tiêu bán hàng mà bạn đã đưa ra</a:t>
            </a:r>
            <a:endParaRPr b="0" lang="en-US" sz="2400" spc="-1" strike="noStrike">
              <a:solidFill>
                <a:srgbClr val="000000"/>
              </a:solidFill>
              <a:latin typeface="Tahom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Checking is your compass for staying on cours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Kiểm tra phản hồi của khách hàng là kim chỉ nam giúp bạn tránh đi xa mục tiêu bán hàng”</a:t>
            </a:r>
            <a:endParaRPr b="0" lang="en-US" sz="3200" spc="-1" strike="noStrike">
              <a:solidFill>
                <a:srgbClr val="000000"/>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3:30:55Z</dcterms:created>
  <dc:creator>THANH</dc:creator>
  <dc:description/>
  <dc:language>en-US</dc:language>
  <cp:lastModifiedBy>Nhat Nguyen</cp:lastModifiedBy>
  <dcterms:modified xsi:type="dcterms:W3CDTF">2007-03-16T09:24:39Z</dcterms:modified>
  <cp:revision>10</cp:revision>
  <dc:subject/>
  <dc:title>Sáu kỹ năng quan trọng nhất trong bán hàng</dc:title>
</cp:coreProperties>
</file>