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17D-4F9D-4C8F-A6F2-F2BB299D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9E3-9EB6-4588-B29E-A400691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803-4306-4EA0-826A-85D7D27A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D7B-4D56-4CB8-A637-B7B3B001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965-3616-4A1D-AC80-10E869C4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CD2-C800-42C7-B888-CCF5B365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D57-3255-47B9-9A37-6165C44A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0BD-A55E-4C17-A65C-37AC53A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265-8846-4921-84D6-4C9DC876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726-E5AA-4084-BD2E-14B287B9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CEC-6169-4C8D-800F-EF8D6FD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EA6-56B1-432B-A036-6DBCCC7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836-4BEC-4D06-9E8A-5AC8D72E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565360"/>
            <a:ext cx="7126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Introducción a la transmisión de señ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916280"/>
            <a:ext cx="69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70000" y="107280"/>
            <a:ext cx="39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modulació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836640"/>
            <a:ext cx="8675640" cy="2503440"/>
            <a:chOff x="250920" y="836640"/>
            <a:chExt cx="8675640" cy="2503440"/>
          </a:xfrm>
        </p:grpSpPr>
        <p:graphicFrame>
          <p:nvGraphicFramePr>
            <p:cNvPr id="101" name=""/>
            <p:cNvGraphicFramePr/>
            <p:nvPr/>
          </p:nvGraphicFramePr>
          <p:xfrm>
            <a:off x="1006560" y="836640"/>
            <a:ext cx="7705800" cy="250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6560" y="836640"/>
                      <a:ext cx="7705800" cy="250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8207640" y="1196640"/>
              <a:ext cx="718920" cy="2087280"/>
            </a:xfrm>
            <a:prstGeom prst="downArrow">
              <a:avLst>
                <a:gd name="adj1" fmla="val 69120"/>
                <a:gd name="adj2" fmla="val 45042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7803000" y="1953720"/>
              <a:ext cx="149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gurida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250920" y="1196640"/>
              <a:ext cx="719280" cy="2087280"/>
            </a:xfrm>
            <a:prstGeom prst="downArrow">
              <a:avLst>
                <a:gd name="adj1" fmla="val 69120"/>
                <a:gd name="adj2" fmla="val 4502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99cc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-75240" y="2025720"/>
              <a:ext cx="13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ncillez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376200" y="3522600"/>
          <a:ext cx="8528040" cy="2923920"/>
        </p:xfrm>
        <a:graphic>
          <a:graphicData uri="http://schemas.openxmlformats.org/drawingml/2006/table">
            <a:tbl>
              <a:tblPr/>
              <a:tblGrid>
                <a:gridCol w="1192320"/>
                <a:gridCol w="2251080"/>
                <a:gridCol w="1520640"/>
                <a:gridCol w="1524240"/>
                <a:gridCol w="2039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 de 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o de transm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cance del enl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er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todo de transm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ble de co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s-med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s-a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a óp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es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a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gu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das de r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es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lesqu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u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67080" y="25956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214280"/>
          <a:ext cx="8713800" cy="20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14280"/>
                    <a:ext cx="8713800" cy="20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3573360"/>
          <a:ext cx="878544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573360"/>
                    <a:ext cx="878544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771640" y="3059280"/>
            <a:ext cx="46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stema de telemedida como un concepto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5938920"/>
            <a:ext cx="568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stema de Medida multi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836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proceso de medida de parámetros a larga distancia que incluya la transmisión de la información captada por un sensor hasta un sistema receptor se conoce como telemed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68360" y="1341360"/>
            <a:ext cx="6119280" cy="5256000"/>
            <a:chOff x="468360" y="1341360"/>
            <a:chExt cx="6119280" cy="5256000"/>
          </a:xfrm>
        </p:grpSpPr>
        <p:graphicFrame>
          <p:nvGraphicFramePr>
            <p:cNvPr id="119" name=""/>
            <p:cNvGraphicFramePr/>
            <p:nvPr/>
          </p:nvGraphicFramePr>
          <p:xfrm>
            <a:off x="468360" y="1341360"/>
            <a:ext cx="6119280" cy="52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341360"/>
                      <a:ext cx="6119280" cy="52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6122880" y="1647720"/>
              <a:ext cx="464760" cy="438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6720" y="3089160"/>
                <a:ext cx="3672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76720" y="4076640"/>
                <a:ext cx="2737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367080" y="25956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907920"/>
            <a:ext cx="74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cles de tensión: (a) conexión; (b) equivalente básico sólo resistivo; (c) equivalente comple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7002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86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661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0000" y="1628640"/>
          <a:ext cx="460836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460836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79640" y="4437000"/>
                <a:ext cx="475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/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log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l/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206360" y="259560"/>
            <a:ext cx="74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tensió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3860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de transmisión de señal en tensión incluyendo las fuentes de r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71640" y="1052640"/>
            <a:ext cx="4969080" cy="4092480"/>
            <a:chOff x="2771640" y="1052640"/>
            <a:chExt cx="4969080" cy="4092480"/>
          </a:xfrm>
        </p:grpSpPr>
        <p:graphicFrame>
          <p:nvGraphicFramePr>
            <p:cNvPr id="141" name=""/>
            <p:cNvGraphicFramePr/>
            <p:nvPr/>
          </p:nvGraphicFramePr>
          <p:xfrm>
            <a:off x="2771640" y="1052640"/>
            <a:ext cx="4897440" cy="409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1640" y="1052640"/>
                      <a:ext cx="4897440" cy="409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308720" y="1700280"/>
              <a:ext cx="432000" cy="28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9640" y="5013360"/>
            <a:ext cx="7777440" cy="1224000"/>
            <a:chOff x="539640" y="5013360"/>
            <a:chExt cx="7777440" cy="122400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11280" y="5084640"/>
                  <a:ext cx="3024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539640" y="5013360"/>
              <a:ext cx="5832720" cy="1224000"/>
            </a:xfrm>
            <a:prstGeom prst="rightArrow">
              <a:avLst>
                <a:gd name="adj1" fmla="val 79769"/>
                <a:gd name="adj2" fmla="val 4189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11640" y="5327640"/>
              <a:ext cx="16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Con fuente de corriente id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732720" y="5229360"/>
                  <a:ext cx="158436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195640" y="1484280"/>
          <a:ext cx="5257800" cy="1674720"/>
        </p:xfrm>
        <a:graphic>
          <a:graphicData uri="http://schemas.openxmlformats.org/drawingml/2006/table">
            <a:tbl>
              <a:tblPr/>
              <a:tblGrid>
                <a:gridCol w="2035080"/>
                <a:gridCol w="1019160"/>
                <a:gridCol w="22035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cle de 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ES_tradnl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es de t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340000" y="3357720"/>
          <a:ext cx="44640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57720"/>
                    <a:ext cx="44640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61040" y="475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124000" y="1341360"/>
          <a:ext cx="496728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341360"/>
                    <a:ext cx="49672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32000" y="3789360"/>
            <a:ext cx="7200720" cy="2822400"/>
            <a:chOff x="1332000" y="3789360"/>
            <a:chExt cx="7200720" cy="282240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987640" y="3860640"/>
                  <a:ext cx="40323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/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log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1332000" y="3789360"/>
              <a:ext cx="7200720" cy="1800360"/>
            </a:xfrm>
            <a:prstGeom prst="downArrow">
              <a:avLst>
                <a:gd name="adj1" fmla="val 67713"/>
                <a:gd name="adj2" fmla="val 290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560" y="4941360"/>
              <a:ext cx="297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n fuente de corriente id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635280" y="5661000"/>
                  <a:ext cx="208908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/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log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8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51664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depende de la resistencia del conductor, es decir, de su longitud y además anulará el efecto de la fuente de tensión de ru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29720" y="12675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versión V/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95280" y="1484280"/>
            <a:ext cx="8209080" cy="4726080"/>
            <a:chOff x="395280" y="1484280"/>
            <a:chExt cx="8209080" cy="4726080"/>
          </a:xfrm>
        </p:grpSpPr>
        <p:graphicFrame>
          <p:nvGraphicFramePr>
            <p:cNvPr id="173" name=""/>
            <p:cNvGraphicFramePr/>
            <p:nvPr/>
          </p:nvGraphicFramePr>
          <p:xfrm>
            <a:off x="395280" y="1484280"/>
            <a:ext cx="8209080" cy="438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484280"/>
                      <a:ext cx="8209080" cy="438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2340000" y="5344920"/>
              <a:ext cx="863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16720" y="5418000"/>
              <a:ext cx="863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56000" y="5084640"/>
            <a:ext cx="57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5880" y="5714640"/>
            <a:ext cx="10080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 =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28600" y="5714640"/>
            <a:ext cx="10080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 =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o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1628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ido a m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1125360"/>
          <a:ext cx="432612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25360"/>
                    <a:ext cx="4326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2060640"/>
          <a:ext cx="352908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3529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547640" y="4724280"/>
                <a:ext cx="1295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067280" y="1844640"/>
          <a:ext cx="5076720" cy="380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844640"/>
                    <a:ext cx="507672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026000" y="25956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elemedida. Bucle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4360" y="83664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280" y="2133720"/>
            <a:ext cx="8713080" cy="2518200"/>
            <a:chOff x="179280" y="2133720"/>
            <a:chExt cx="8713080" cy="2518200"/>
          </a:xfrm>
        </p:grpSpPr>
        <p:grpSp>
          <p:nvGrpSpPr>
            <p:cNvPr id="46" name=""/>
            <p:cNvGrpSpPr/>
            <p:nvPr/>
          </p:nvGrpSpPr>
          <p:grpSpPr>
            <a:xfrm>
              <a:off x="179280" y="2489040"/>
              <a:ext cx="8713080" cy="2162880"/>
              <a:chOff x="179280" y="2489040"/>
              <a:chExt cx="8713080" cy="2162880"/>
            </a:xfrm>
          </p:grpSpPr>
          <p:graphicFrame>
            <p:nvGraphicFramePr>
              <p:cNvPr id="47" name=""/>
              <p:cNvGraphicFramePr/>
              <p:nvPr/>
            </p:nvGraphicFramePr>
            <p:xfrm>
              <a:off x="179280" y="2666160"/>
              <a:ext cx="8713080" cy="1985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9280" y="2666160"/>
                        <a:ext cx="8713080" cy="198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" name=""/>
              <p:cNvSpPr/>
              <p:nvPr/>
            </p:nvSpPr>
            <p:spPr>
              <a:xfrm>
                <a:off x="4846320" y="2489040"/>
                <a:ext cx="1166040" cy="798120"/>
              </a:xfrm>
              <a:prstGeom prst="rect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858280" y="2133720"/>
              <a:ext cx="77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5400" spc="-1" strike="noStrike">
                  <a:solidFill>
                    <a:srgbClr val="ff3300"/>
                  </a:solidFill>
                  <a:latin typeface="Arial"/>
                </a:rPr>
                <a:t>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47640" y="1268280"/>
          <a:ext cx="6336000" cy="47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33600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2200" y="259560"/>
            <a:ext cx="70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Bucles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sl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95640" y="1197000"/>
            <a:ext cx="5400720" cy="5661000"/>
            <a:chOff x="2195640" y="1197000"/>
            <a:chExt cx="5400720" cy="5661000"/>
          </a:xfrm>
        </p:grpSpPr>
        <p:graphicFrame>
          <p:nvGraphicFramePr>
            <p:cNvPr id="202" name=""/>
            <p:cNvGraphicFramePr/>
            <p:nvPr/>
          </p:nvGraphicFramePr>
          <p:xfrm>
            <a:off x="2195640" y="1197000"/>
            <a:ext cx="5216400" cy="566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1197000"/>
                      <a:ext cx="5216400" cy="56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6948360" y="1773360"/>
              <a:ext cx="64800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402200" y="259560"/>
            <a:ext cx="70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Bucles de corri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sl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68360" y="1052640"/>
            <a:ext cx="5256360" cy="5805000"/>
            <a:chOff x="2268360" y="1052640"/>
            <a:chExt cx="5256360" cy="5805000"/>
          </a:xfrm>
        </p:grpSpPr>
        <p:grpSp>
          <p:nvGrpSpPr>
            <p:cNvPr id="54" name=""/>
            <p:cNvGrpSpPr/>
            <p:nvPr/>
          </p:nvGrpSpPr>
          <p:grpSpPr>
            <a:xfrm>
              <a:off x="2268360" y="1052640"/>
              <a:ext cx="4679640" cy="5805000"/>
              <a:chOff x="2268360" y="1052640"/>
              <a:chExt cx="4679640" cy="5805000"/>
            </a:xfrm>
          </p:grpSpPr>
          <p:graphicFrame>
            <p:nvGraphicFramePr>
              <p:cNvPr id="55" name=""/>
              <p:cNvGraphicFramePr/>
              <p:nvPr/>
            </p:nvGraphicFramePr>
            <p:xfrm>
              <a:off x="2268360" y="1052640"/>
              <a:ext cx="4548600" cy="5805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68360" y="1052640"/>
                        <a:ext cx="4548600" cy="58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7" name=""/>
              <p:cNvSpPr/>
              <p:nvPr/>
            </p:nvSpPr>
            <p:spPr>
              <a:xfrm>
                <a:off x="6279840" y="1864800"/>
                <a:ext cx="668160" cy="310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588000" y="1557360"/>
              <a:ext cx="936720" cy="4248000"/>
            </a:xfrm>
            <a:prstGeom prst="downArrow">
              <a:avLst>
                <a:gd name="adj1" fmla="val 52880"/>
                <a:gd name="adj2" fmla="val 6456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5979960" y="3388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Mej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16000" y="765000"/>
          <a:ext cx="6840720" cy="27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84072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908000" y="3114720"/>
          <a:ext cx="5543640" cy="3566880"/>
        </p:xfrm>
        <a:graphic>
          <a:graphicData uri="http://schemas.openxmlformats.org/drawingml/2006/table">
            <a:tbl>
              <a:tblPr/>
              <a:tblGrid>
                <a:gridCol w="648000"/>
                <a:gridCol w="1998360"/>
                <a:gridCol w="289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pa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ó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estructu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20, 25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ncales de telefon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baja velo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 velocida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, 4,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estructu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89400" y="18828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40000" y="1916280"/>
          <a:ext cx="4753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753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4437000"/>
                <a:ext cx="4176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/d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/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/d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63640" y="1317600"/>
          <a:ext cx="583272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17600"/>
                    <a:ext cx="583272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00000" y="4076640"/>
          <a:ext cx="705672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076640"/>
                    <a:ext cx="70567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3141720"/>
          <a:ext cx="8066160" cy="35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141720"/>
                    <a:ext cx="806616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68360" y="981000"/>
          <a:ext cx="4753080" cy="290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981000"/>
                    <a:ext cx="47530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421000"/>
          <a:ext cx="914400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1440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9400" y="332640"/>
            <a:ext cx="79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2840" y="180360"/>
            <a:ext cx="86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edios de transmisión no guiad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989000"/>
          <a:ext cx="8964720" cy="23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96472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4292640"/>
          <a:ext cx="41148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292640"/>
                    <a:ext cx="41148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11280" y="1052640"/>
            <a:ext cx="7848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puede hablar de dos tipos de medios de transmisión no guiados según el tipo de ondas que se propagu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ndas de presión en medios elást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adiación electromagnética en el aire o en el vac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14:47:49Z</dcterms:created>
  <dc:creator>Miguel Angel Pérez García</dc:creator>
  <dc:description/>
  <dc:language>en-US</dc:language>
  <cp:lastModifiedBy>Holger</cp:lastModifiedBy>
  <dcterms:modified xsi:type="dcterms:W3CDTF">2005-01-19T11:43:01Z</dcterms:modified>
  <cp:revision>9</cp:revision>
  <dc:subject/>
  <dc:title>Introducción a la transmisión de señal</dc:title>
</cp:coreProperties>
</file>