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2B2-4E23-40F6-9957-05E1EE54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6DC-DA76-4912-9BDC-BC902665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D10-0CF7-4FD0-BE78-A6456B48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A31-C3E7-4DC7-8A01-1B53B08E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4C1-1F76-4A12-9BC0-C9DAE4EE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602-9B67-4821-B8CB-44C6D381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F301-3638-405D-86FF-907AEFB0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638-BA6A-4920-B074-438900C7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6242-A01C-43D6-A624-1718FDCF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31D-CB47-411F-8F97-B8F2439B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3B3-D85C-4A37-84F9-79C5024C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292-BE96-4EE1-A35F-0840D833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6119-3AFE-487D-8009-B2267B404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565360"/>
            <a:ext cx="7126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"/>
              </a:rPr>
              <a:t>Introducción a la transmisión de señ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916280"/>
            <a:ext cx="69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70000" y="107280"/>
            <a:ext cx="39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modulació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50920" y="836640"/>
            <a:ext cx="8675640" cy="2503440"/>
            <a:chOff x="250920" y="836640"/>
            <a:chExt cx="8675640" cy="2503440"/>
          </a:xfrm>
        </p:grpSpPr>
        <p:graphicFrame>
          <p:nvGraphicFramePr>
            <p:cNvPr id="101" name=""/>
            <p:cNvGraphicFramePr/>
            <p:nvPr/>
          </p:nvGraphicFramePr>
          <p:xfrm>
            <a:off x="1006560" y="836640"/>
            <a:ext cx="7705800" cy="2503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6560" y="836640"/>
                      <a:ext cx="7705800" cy="250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>
              <a:off x="8207640" y="1196640"/>
              <a:ext cx="718920" cy="2087280"/>
            </a:xfrm>
            <a:prstGeom prst="downArrow">
              <a:avLst>
                <a:gd name="adj1" fmla="val 69120"/>
                <a:gd name="adj2" fmla="val 45042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7803000" y="1953720"/>
              <a:ext cx="149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Seguridad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800000">
              <a:off x="250920" y="1196640"/>
              <a:ext cx="719280" cy="2087280"/>
            </a:xfrm>
            <a:prstGeom prst="downArrow">
              <a:avLst>
                <a:gd name="adj1" fmla="val 69120"/>
                <a:gd name="adj2" fmla="val 4502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99cc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-75240" y="2025720"/>
              <a:ext cx="133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Sencillez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7" name=""/>
          <p:cNvGraphicFramePr/>
          <p:nvPr/>
        </p:nvGraphicFramePr>
        <p:xfrm>
          <a:off x="376200" y="3522600"/>
          <a:ext cx="8528040" cy="2923920"/>
        </p:xfrm>
        <a:graphic>
          <a:graphicData uri="http://schemas.openxmlformats.org/drawingml/2006/table">
            <a:tbl>
              <a:tblPr/>
              <a:tblGrid>
                <a:gridCol w="1192320"/>
                <a:gridCol w="2251080"/>
                <a:gridCol w="1520640"/>
                <a:gridCol w="1524240"/>
                <a:gridCol w="2039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 de me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o de transmi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cance del enl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ferenc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étodo de transmi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373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i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ble de co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s-med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a 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ul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a 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s-a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ul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a óp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alqui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alesqui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a 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gui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das de ra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alqui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alesqui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ul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alqui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alesqui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ul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67080" y="259560"/>
            <a:ext cx="311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1214280"/>
          <a:ext cx="8713800" cy="20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14280"/>
                    <a:ext cx="8713800" cy="20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3573360"/>
          <a:ext cx="8785440" cy="22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573360"/>
                    <a:ext cx="878544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771640" y="3059280"/>
            <a:ext cx="46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stema de telemedida como un concepto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5938920"/>
            <a:ext cx="568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stema de Medida multi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83664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 proceso de medida de parámetros a larga distancia que incluya la transmisión de la información captada por un sensor hasta un sistema receptor se conoce como telemedi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468360" y="1341360"/>
            <a:ext cx="6119280" cy="5256000"/>
            <a:chOff x="468360" y="1341360"/>
            <a:chExt cx="6119280" cy="5256000"/>
          </a:xfrm>
        </p:grpSpPr>
        <p:graphicFrame>
          <p:nvGraphicFramePr>
            <p:cNvPr id="119" name=""/>
            <p:cNvGraphicFramePr/>
            <p:nvPr/>
          </p:nvGraphicFramePr>
          <p:xfrm>
            <a:off x="468360" y="1341360"/>
            <a:ext cx="6119280" cy="525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1341360"/>
                      <a:ext cx="6119280" cy="525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6122880" y="1647720"/>
              <a:ext cx="464760" cy="438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076720" y="3089160"/>
                <a:ext cx="3672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76720" y="4076640"/>
                <a:ext cx="2737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367080" y="259560"/>
            <a:ext cx="311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907920"/>
            <a:ext cx="74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ucles de tensión: (a) conexión; (b) equivalente básico sólo resistivo; (c) equivalente comple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170028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860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661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340000" y="1628640"/>
          <a:ext cx="4608360" cy="22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628640"/>
                    <a:ext cx="460836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979640" y="4437000"/>
                <a:ext cx="4753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/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log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l/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206360" y="259560"/>
            <a:ext cx="745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. Bucle de tensió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860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 de transmisión de señal en tensión incluyendo las fuentes de r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771640" y="1052640"/>
            <a:ext cx="4969080" cy="4092480"/>
            <a:chOff x="2771640" y="1052640"/>
            <a:chExt cx="4969080" cy="4092480"/>
          </a:xfrm>
        </p:grpSpPr>
        <p:graphicFrame>
          <p:nvGraphicFramePr>
            <p:cNvPr id="141" name=""/>
            <p:cNvGraphicFramePr/>
            <p:nvPr/>
          </p:nvGraphicFramePr>
          <p:xfrm>
            <a:off x="2771640" y="1052640"/>
            <a:ext cx="4897440" cy="409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71640" y="1052640"/>
                      <a:ext cx="4897440" cy="409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7308720" y="1700280"/>
              <a:ext cx="432000" cy="28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39640" y="5013360"/>
            <a:ext cx="7777440" cy="1224000"/>
            <a:chOff x="539640" y="5013360"/>
            <a:chExt cx="7777440" cy="1224000"/>
          </a:xfrm>
        </p:grpSpPr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611280" y="5084640"/>
                  <a:ext cx="302400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8" name=""/>
            <p:cNvSpPr/>
            <p:nvPr/>
          </p:nvSpPr>
          <p:spPr>
            <a:xfrm>
              <a:off x="539640" y="5013360"/>
              <a:ext cx="5832720" cy="1224000"/>
            </a:xfrm>
            <a:prstGeom prst="rightArrow">
              <a:avLst>
                <a:gd name="adj1" fmla="val 79769"/>
                <a:gd name="adj2" fmla="val 4189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11640" y="5327640"/>
              <a:ext cx="16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Con fuente de corriente ide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6732720" y="5229360"/>
                  <a:ext cx="1584360" cy="60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1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26000" y="259560"/>
            <a:ext cx="78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. Bucle de corri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195640" y="1484280"/>
          <a:ext cx="5257800" cy="1674720"/>
        </p:xfrm>
        <a:graphic>
          <a:graphicData uri="http://schemas.openxmlformats.org/drawingml/2006/table">
            <a:tbl>
              <a:tblPr/>
              <a:tblGrid>
                <a:gridCol w="2035080"/>
                <a:gridCol w="1019160"/>
                <a:gridCol w="22035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cle de corr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ES_tradnl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veles de t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340000" y="3357720"/>
          <a:ext cx="4464000" cy="25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357720"/>
                    <a:ext cx="446400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761040" y="475560"/>
            <a:ext cx="78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. Bucle de corri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124000" y="1341360"/>
          <a:ext cx="4967280" cy="22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341360"/>
                    <a:ext cx="496728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32000" y="3789360"/>
            <a:ext cx="7200720" cy="2822400"/>
            <a:chOff x="1332000" y="3789360"/>
            <a:chExt cx="7200720" cy="282240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2987640" y="3860640"/>
                  <a:ext cx="403236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/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log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1332000" y="3789360"/>
              <a:ext cx="7200720" cy="1800360"/>
            </a:xfrm>
            <a:prstGeom prst="downArrow">
              <a:avLst>
                <a:gd name="adj1" fmla="val 67713"/>
                <a:gd name="adj2" fmla="val 2909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71560" y="4941360"/>
              <a:ext cx="297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n fuente de corriente ide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3635280" y="5661000"/>
                  <a:ext cx="208908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/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log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8" name=""/>
          <p:cNvSpPr/>
          <p:nvPr/>
        </p:nvSpPr>
        <p:spPr>
          <a:xfrm>
            <a:off x="1026000" y="259560"/>
            <a:ext cx="78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. Bucle de corri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551664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depende de la resistencia del conductor, es decir, de su longitud y además anulará el efecto de la fuente de tensión de ru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29720" y="12675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versión V/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95280" y="1484280"/>
            <a:ext cx="8209080" cy="4726080"/>
            <a:chOff x="395280" y="1484280"/>
            <a:chExt cx="8209080" cy="4726080"/>
          </a:xfrm>
        </p:grpSpPr>
        <p:graphicFrame>
          <p:nvGraphicFramePr>
            <p:cNvPr id="173" name=""/>
            <p:cNvGraphicFramePr/>
            <p:nvPr/>
          </p:nvGraphicFramePr>
          <p:xfrm>
            <a:off x="395280" y="1484280"/>
            <a:ext cx="8209080" cy="438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1484280"/>
                      <a:ext cx="8209080" cy="438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2340000" y="5344920"/>
              <a:ext cx="86364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16720" y="5418000"/>
              <a:ext cx="86364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556000" y="5084640"/>
            <a:ext cx="576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5880" y="5714640"/>
            <a:ext cx="10080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 =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28600" y="5714640"/>
            <a:ext cx="10080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 =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26000" y="259560"/>
            <a:ext cx="78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. Bucle de corri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200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lo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80000" y="1628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ferido a m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1125360"/>
          <a:ext cx="432612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125360"/>
                    <a:ext cx="432612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26000" y="259560"/>
            <a:ext cx="78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. Bucle de corri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11280" y="2060640"/>
          <a:ext cx="352908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352908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547640" y="4724280"/>
                <a:ext cx="12956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067280" y="1844640"/>
          <a:ext cx="5076720" cy="380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844640"/>
                    <a:ext cx="507672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026000" y="259560"/>
            <a:ext cx="78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. Bucle de corri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84360" y="83664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 transmi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9280" y="2133720"/>
            <a:ext cx="8713080" cy="2518200"/>
            <a:chOff x="179280" y="2133720"/>
            <a:chExt cx="8713080" cy="2518200"/>
          </a:xfrm>
        </p:grpSpPr>
        <p:grpSp>
          <p:nvGrpSpPr>
            <p:cNvPr id="46" name=""/>
            <p:cNvGrpSpPr/>
            <p:nvPr/>
          </p:nvGrpSpPr>
          <p:grpSpPr>
            <a:xfrm>
              <a:off x="179280" y="2489040"/>
              <a:ext cx="8713080" cy="2162880"/>
              <a:chOff x="179280" y="2489040"/>
              <a:chExt cx="8713080" cy="2162880"/>
            </a:xfrm>
          </p:grpSpPr>
          <p:graphicFrame>
            <p:nvGraphicFramePr>
              <p:cNvPr id="47" name=""/>
              <p:cNvGraphicFramePr/>
              <p:nvPr/>
            </p:nvGraphicFramePr>
            <p:xfrm>
              <a:off x="179280" y="2666160"/>
              <a:ext cx="8713080" cy="1985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79280" y="2666160"/>
                        <a:ext cx="8713080" cy="1985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9" name=""/>
              <p:cNvSpPr/>
              <p:nvPr/>
            </p:nvSpPr>
            <p:spPr>
              <a:xfrm>
                <a:off x="4846320" y="2489040"/>
                <a:ext cx="1166040" cy="798120"/>
              </a:xfrm>
              <a:prstGeom prst="rect">
                <a:avLst/>
              </a:prstGeom>
              <a:noFill/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858280" y="2133720"/>
              <a:ext cx="77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5400" spc="-1" strike="noStrike">
                  <a:solidFill>
                    <a:srgbClr val="ff3300"/>
                  </a:solidFill>
                  <a:latin typeface="Arial"/>
                </a:rPr>
                <a:t>!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47640" y="1268280"/>
          <a:ext cx="6336000" cy="47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268280"/>
                    <a:ext cx="633600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402200" y="259560"/>
            <a:ext cx="70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Bucles de corri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isl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195640" y="1197000"/>
            <a:ext cx="5400720" cy="5661000"/>
            <a:chOff x="2195640" y="1197000"/>
            <a:chExt cx="5400720" cy="5661000"/>
          </a:xfrm>
        </p:grpSpPr>
        <p:graphicFrame>
          <p:nvGraphicFramePr>
            <p:cNvPr id="202" name=""/>
            <p:cNvGraphicFramePr/>
            <p:nvPr/>
          </p:nvGraphicFramePr>
          <p:xfrm>
            <a:off x="2195640" y="1197000"/>
            <a:ext cx="5216400" cy="5661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5640" y="1197000"/>
                      <a:ext cx="5216400" cy="56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6948360" y="1773360"/>
              <a:ext cx="648000" cy="36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402200" y="259560"/>
            <a:ext cx="70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Bucles de corri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isl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9400" y="332640"/>
            <a:ext cx="79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edios de transmisión guiad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68360" y="1052640"/>
            <a:ext cx="5256360" cy="5805000"/>
            <a:chOff x="2268360" y="1052640"/>
            <a:chExt cx="5256360" cy="5805000"/>
          </a:xfrm>
        </p:grpSpPr>
        <p:grpSp>
          <p:nvGrpSpPr>
            <p:cNvPr id="54" name=""/>
            <p:cNvGrpSpPr/>
            <p:nvPr/>
          </p:nvGrpSpPr>
          <p:grpSpPr>
            <a:xfrm>
              <a:off x="2268360" y="1052640"/>
              <a:ext cx="4679640" cy="5805000"/>
              <a:chOff x="2268360" y="1052640"/>
              <a:chExt cx="4679640" cy="5805000"/>
            </a:xfrm>
          </p:grpSpPr>
          <p:graphicFrame>
            <p:nvGraphicFramePr>
              <p:cNvPr id="55" name=""/>
              <p:cNvGraphicFramePr/>
              <p:nvPr/>
            </p:nvGraphicFramePr>
            <p:xfrm>
              <a:off x="2268360" y="1052640"/>
              <a:ext cx="4548600" cy="5805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68360" y="1052640"/>
                        <a:ext cx="4548600" cy="5805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7" name=""/>
              <p:cNvSpPr/>
              <p:nvPr/>
            </p:nvSpPr>
            <p:spPr>
              <a:xfrm>
                <a:off x="6279840" y="1864800"/>
                <a:ext cx="668160" cy="310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6588000" y="1557360"/>
              <a:ext cx="936720" cy="4248000"/>
            </a:xfrm>
            <a:prstGeom prst="downArrow">
              <a:avLst>
                <a:gd name="adj1" fmla="val 52880"/>
                <a:gd name="adj2" fmla="val 6456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5979960" y="338832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Mej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16000" y="765000"/>
          <a:ext cx="6840720" cy="27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765000"/>
                    <a:ext cx="684072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908000" y="3114720"/>
          <a:ext cx="5543640" cy="3566880"/>
        </p:xfrm>
        <a:graphic>
          <a:graphicData uri="http://schemas.openxmlformats.org/drawingml/2006/table">
            <a:tbl>
              <a:tblPr/>
              <a:tblGrid>
                <a:gridCol w="648000"/>
                <a:gridCol w="1998360"/>
                <a:gridCol w="2897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par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ó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on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 estructu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20, 25,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 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ncales de telefon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os baja velo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os velocida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, 4,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 estructu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on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689400" y="188280"/>
            <a:ext cx="79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edios de transmisión guiad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40000" y="1916280"/>
          <a:ext cx="475308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16280"/>
                    <a:ext cx="4753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627280" y="4437000"/>
                <a:ext cx="41767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f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/d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/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/d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89400" y="332640"/>
            <a:ext cx="79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edios de transmisión guiad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63640" y="1317600"/>
          <a:ext cx="5832720" cy="22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17600"/>
                    <a:ext cx="583272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00000" y="4076640"/>
          <a:ext cx="7056720" cy="15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076640"/>
                    <a:ext cx="705672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89400" y="332640"/>
            <a:ext cx="79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edios de transmisión guiad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8360" y="3141720"/>
          <a:ext cx="8066160" cy="35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141720"/>
                    <a:ext cx="8066160" cy="35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68360" y="981000"/>
          <a:ext cx="4753080" cy="290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981000"/>
                    <a:ext cx="475308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9400" y="332640"/>
            <a:ext cx="79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edios de transmisión guiad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2421000"/>
          <a:ext cx="914400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91440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89400" y="332640"/>
            <a:ext cx="79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edios de transmisión guiad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2840" y="180360"/>
            <a:ext cx="86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edios de transmisión no guiad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1989000"/>
          <a:ext cx="8964720" cy="23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96472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4292640"/>
          <a:ext cx="411480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292640"/>
                    <a:ext cx="41148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11280" y="1052640"/>
            <a:ext cx="7848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 puede hablar de dos tipos de medios de transmisión no guiados según el tipo de ondas que se propagu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ndas de presión en medios elást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adiación electromagnética en el aire o en el vací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14:47:49Z</dcterms:created>
  <dc:creator>Miguel Angel Pérez García</dc:creator>
  <dc:description/>
  <dc:language>en-US</dc:language>
  <cp:lastModifiedBy>Holger</cp:lastModifiedBy>
  <dcterms:modified xsi:type="dcterms:W3CDTF">2005-01-19T11:43:01Z</dcterms:modified>
  <cp:revision>9</cp:revision>
  <dc:subject/>
  <dc:title>Introducción a la transmisión de señal</dc:title>
</cp:coreProperties>
</file>