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608-2577-40A2-9827-C68065CE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599-D261-4B30-A446-40CEACCD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702-7C7D-49B0-9CE7-AD1B278D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877-3EB9-477B-9C8C-3A8FCCA0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8E9-E20A-4F4A-9849-D5F8EF5D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F97-49CF-4026-BF8E-7FDE4B9E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EA8-ED67-458F-9D07-6C209BCA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CC1-2F85-42D5-A7B3-871C96EC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AD6-A543-45A2-A811-568827D5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89A-589D-41ED-9A93-FC73F29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3C9-BBE1-41C6-A0BD-B28F3BC6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EC7-4100-47EA-8C50-F5745421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2264-AEDD-4C58-8893-4790B1A8555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7.xml"/><Relationship Id="rId3" Type="http://schemas.openxmlformats.org/officeDocument/2006/relationships/image" Target="../media/image13.jpeg"/><Relationship Id="rId4" Type="http://schemas.openxmlformats.org/officeDocument/2006/relationships/slide" Target="slide11.xml"/><Relationship Id="rId5" Type="http://schemas.openxmlformats.org/officeDocument/2006/relationships/image" Target="../media/image13.jpeg"/><Relationship Id="rId6" Type="http://schemas.openxmlformats.org/officeDocument/2006/relationships/slide" Target="slide13.xml"/><Relationship Id="rId7" Type="http://schemas.openxmlformats.org/officeDocument/2006/relationships/image" Target="../media/image14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14.jpeg"/><Relationship Id="rId10" Type="http://schemas.openxmlformats.org/officeDocument/2006/relationships/slide" Target="slide3.xml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1556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وح والعروس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لان تعال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ل من يسمع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ليقل تعا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939960"/>
            <a:ext cx="9144000" cy="6058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زادت الاشو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طال الفر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إمتي البوق ه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ضرب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تم الانطلا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05264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نيسة مغسولة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الدم الكر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ك ساكن فيها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اها مق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5264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هنرنم ترنيمة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لفدا ال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ستحق لوحدك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تأخذ التعظ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1556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وح والعروس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لان تعال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ل من يسمع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ليقل تعا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939960"/>
            <a:ext cx="9144000" cy="6058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زادت الاشو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طال الفر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إمتي البوق ه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ضرب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تم الانطلا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إملانى من روح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نيسة مغسو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108000" y="1281240"/>
            <a:ext cx="446400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الروح والعروس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92">
            <a:hlinkClick r:id="rId8"/>
          </p:cNvPr>
          <p:cNvSpPr/>
          <p:nvPr/>
        </p:nvSpPr>
        <p:spPr>
          <a:xfrm>
            <a:off x="900000" y="260280"/>
            <a:ext cx="259236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غاية الاي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939960"/>
            <a:ext cx="9144000" cy="6058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زادت الاشو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طال الفر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إمتي البوق ه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ضرب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تم الانطلا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05264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اية الايمان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وم لقانا ب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جل بمجيئك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عبك مستن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9810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نيستك عروستك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بتنادي عل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سرع وتعال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جل بمج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1556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وح والعروس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لان تعال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ل من يسمع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ليقل تعا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939960"/>
            <a:ext cx="9144000" cy="6058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زادت الاشو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طال الفراق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إمتي البوق ه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ضرب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تم الانطلا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1970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ملاني من روحك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 الانتظ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خليني اعيش لك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نحوك الانظ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981000"/>
            <a:ext cx="9144000" cy="605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مني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رشدني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كشفلي الاسرار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لتجري من بطني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لخدم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ة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انه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155600"/>
            <a:ext cx="9144000" cy="49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وح والعروس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لان تعال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ل من يسمع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ليقل تعا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608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2</cp:lastModifiedBy>
  <dcterms:modified xsi:type="dcterms:W3CDTF">2008-09-01T23:45:12Z</dcterms:modified>
  <cp:revision>49</cp:revision>
  <dc:subject/>
  <dc:title>PowerPoint Presentation</dc:title>
</cp:coreProperties>
</file>