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A5F-20C8-410D-B564-9246280B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F2B-B831-46DA-8654-A2570208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ADC-3518-4FB6-B06E-B2C79AC3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414-E49A-48F3-A7CF-9B0116C6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DC9-CD7E-46DB-ACAC-F4876D1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EBB-A445-4B2F-9A91-5244893F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72F-3864-431F-AF96-7E7D1015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EDB-E908-4BFA-B9DE-914A6175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CD6-4DFF-4DBA-95C9-BBA9996C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A7B-3C96-448E-8DE2-1FB5E652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563-16D7-4ED6-A1BF-6E29EA89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4D2-61DA-47CB-A6E4-493719E9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53D0-A7BA-4D69-B0BC-7462A5F7255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7.xml"/><Relationship Id="rId3" Type="http://schemas.openxmlformats.org/officeDocument/2006/relationships/image" Target="../media/image13.jpeg"/><Relationship Id="rId4" Type="http://schemas.openxmlformats.org/officeDocument/2006/relationships/slide" Target="slide11.xml"/><Relationship Id="rId5" Type="http://schemas.openxmlformats.org/officeDocument/2006/relationships/image" Target="../media/image13.jpeg"/><Relationship Id="rId6" Type="http://schemas.openxmlformats.org/officeDocument/2006/relationships/slide" Target="slide13.xml"/><Relationship Id="rId7" Type="http://schemas.openxmlformats.org/officeDocument/2006/relationships/image" Target="../media/image14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14.jpeg"/><Relationship Id="rId10" Type="http://schemas.openxmlformats.org/officeDocument/2006/relationships/slide" Target="slide3.xml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1556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وح والعروس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لان تعال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ل من يسمع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ليقل تعا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939960"/>
            <a:ext cx="9144000" cy="6058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زادت الاشو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طال الفر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إمتي البوق ه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ضرب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تم الانطلا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05264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نيسة مغسولة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الدم الكر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ك ساكن فيها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اها مق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5264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هنرنم ترنيمة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لفدا ال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ستحق لوحدك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تأخذ الت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1556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وح والعروس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لان تعال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ل من يسمع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ليقل تعا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939960"/>
            <a:ext cx="9144000" cy="6058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زادت الاشو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طال الفر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إمتي البوق ه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ضرب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تم الانطلا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إملانى من روح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نيسة مغسو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108000" y="1281240"/>
            <a:ext cx="446400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الروح والعروس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92">
            <a:hlinkClick r:id="rId8"/>
          </p:cNvPr>
          <p:cNvSpPr/>
          <p:nvPr/>
        </p:nvSpPr>
        <p:spPr>
          <a:xfrm>
            <a:off x="900000" y="260280"/>
            <a:ext cx="259236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غاية الاي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939960"/>
            <a:ext cx="9144000" cy="6058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زادت الاشو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طال الفر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إمتي البوق ه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ضرب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تم الانطلا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05264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اية الايمان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وم لقانا ب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جل بمجيئك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عبك مستن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9810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نيستك عروستك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بتنادي عل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سرع وتعال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جل بمج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1556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وح والعروس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لان تعال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ل من يسمع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ليقل تعا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939960"/>
            <a:ext cx="9144000" cy="6058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زادت الاشو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طال الفر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إمتي البوق ه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ضرب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تم الانطلا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1970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ملاني من روحك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 الانتظ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خليني اعيش لك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نحوك الانظ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981000"/>
            <a:ext cx="9144000" cy="605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مني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رشدني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كشفلي الاسرار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لتجري من بطني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لخدم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ة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انه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1556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وح والعروس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لان تعال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ل من يسمع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ليقل تعا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2</cp:lastModifiedBy>
  <dcterms:modified xsi:type="dcterms:W3CDTF">2008-09-01T23:45:12Z</dcterms:modified>
  <cp:revision>49</cp:revision>
  <dc:subject/>
  <dc:title>PowerPoint Presentation</dc:title>
</cp:coreProperties>
</file>