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6120" y="694800"/>
            <a:ext cx="4640040" cy="348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DEF6C60-C55C-48AE-AC71-56EFA3979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0040" cy="3480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8A02029-FB25-40B6-B180-06A22EDB4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Preven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locks at doors, window bars, walls round th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Dete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stolen items are missing, burglar alarms, closed circuit 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Rea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call the police, replace stolen items, make an insurance claim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Preven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encrypt your orders, rely on the merchant to perform checks on the caller, don’t use the Internet (?)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Dete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n unauthorized transaction appears on your credit card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Rea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complain, ask for a new card number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F3CE45F-6F09-4A68-918C-68370B01A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5901151-11EF-40E9-A086-2334CEAAD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153CF11-CC32-42A5-AF90-607B7BC86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CBDC36D-5A94-4D03-9105-E6A01A6E8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453CF46-C703-4F98-AEE8-31DED206C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AD4D04C-5B5F-4D69-83AC-B4436C5A3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EEC25BB-C035-4502-A85A-38714FDE4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B1D9E83-9214-4706-A72A-FC5F7F678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30BB540-D11E-4FE2-B472-49635194D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F9CA436-0489-4781-B437-514F39501F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Preven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locks at doors, window bars, walls round th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Dete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stolen items are missing, burglar alarms, closed circuit 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Rea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call the police, replace stolen items, make an insurance claim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Preven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encrypt your orders, rely on the merchant to perform checks on the caller, don’t use the Internet (?)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Dete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n unauthorized transaction appears on your credit card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Rea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complain, ask for a new card number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AA7B96E-D51C-43E6-BFFE-A2B2EEE92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D4E3EBC-49B7-4208-ADF5-819D54DB9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4A338C0-8CB2-4B4E-94B7-B5DC48994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FC6F1A3-4A48-466A-92BC-CEA78A278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DD9EE4F-A94E-44E2-BAA0-24C9CB3B4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6F3C3D8-4842-4BCA-B518-2A5465325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F3B3BD1-D9FF-415A-AB03-69A954F27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33A6BF-358B-4D36-A662-64221EC8A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4FA210F-C5AB-4B37-B672-E13ACFBBC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E8D7D43-021E-4B7D-99C3-23D9EBB9C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1876624-0599-43BF-911E-F6272F2BD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Preven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locks at doors, window bars, walls round th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Dete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stolen items are missing, burglar alarms, closed circuit 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Rea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call the police, replace stolen items, make an insurance claim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vention: encrypt your orders, rely on the merchant to perform checks on the caller, don’t use the Internet (?)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ection: an unauthorized transaction appears on your credit card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ction: complain, ask for a new card number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136D7B4-B78C-424A-A755-A93B71E79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9285F67-6C9B-4D49-A15B-996D42FEF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F4796CE-FDCF-421E-89BE-CF282B04F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3209B67-2757-45EA-923E-09793C260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A388681-1F06-4EBE-87D5-9446917A2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E5D77BC-577E-4147-8371-588D15F92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F8E7D63-7C0B-48FC-9F79-842619E6F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FA929B1-3DD6-48C1-9CD6-174D5C1EC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871252F-219B-40AC-A90C-58A0BD50F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Damag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ange orders placed by the client (Instead of 500 widgets he can make the order 50,000 widg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nge meeting venues to send people on wild goose c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5F0064B-ACDC-4959-9F2E-0B93E7140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Preven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locks at doors, window bars, walls round th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Dete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stolen items are missing, burglar alarms, closed circuit 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Rea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call the police, replace stolen items, make an insurance claim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vention: encrypt your orders, rely on the merchant to perform checks on the caller, don’t use the Internet (?)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ection: an unauthorized transaction appears on your credit card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ction: complain, ask for a new card number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57433AB-E777-452A-A0BF-37B9C24C1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Preven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locks at doors, window bars, walls round th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Dete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stolen items are missing, burglar alarms, closed circuit 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Rea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call the police, replace stolen items, make an insurance claim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vention: encrypt your orders, rely on the merchant to perform checks on the caller, don’t use the Internet (?)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tection: an unauthorized transaction appears on your credit card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ction: complain, ask for a new card number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A5FC5B2-E0A5-4A51-BABA-A981DD105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Preven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locks at doors, window bars, walls round th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Dete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stolen items are missing, burglar alarms, closed circuit 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Rea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call the police, replace stolen items, make an insurance claim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Preven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encrypt your orders, rely on the merchant to perform checks on the caller, don’t use the Internet (?)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Dete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n unauthorized transaction appears on your credit card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Rea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complain, ask for a new card number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713E2C9-D7C4-47B6-8B1C-6E5C18ACAC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Preven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locks at doors, window bars, walls round th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Dete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stolen items are missing, burglar alarms, closed circuit 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Rea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call the police, replace stolen items, make an insurance claim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Preven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encrypt your orders, rely on the merchant to perform checks on the caller, don’t use the Internet (?)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Dete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n unauthorized transaction appears on your credit card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Rea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complain, ask for a new card number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A6AB8DD-0875-4642-B0B7-8219D3447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Preven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locks at doors, window bars, walls round th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Dete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stolen items are missing, burglar alarms, closed circuit 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Rea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call the police, replace stolen items, make an insurance claim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Preven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encrypt your orders, rely on the merchant to perform checks on the caller, don’t use the Internet (?)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Dete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n unauthorized transaction appears on your credit card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Rea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complain, ask for a new card number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625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52FC58F-8D50-4295-8D97-005E0C93E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625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3430440" y="240192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89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Preven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locks at doors, window bars, walls round th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Dete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stolen items are missing, burglar alarms, closed circuit 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Rea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call the police, replace stolen items, make an insurance claim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Preven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encrypt your orders, rely on the merchant to perform checks on the caller, don’t use the Internet (?)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Dete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an unauthorized transaction appears on your credit card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Times New Roman"/>
              </a:rPr>
              <a:t>Reaction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complain, ask for a new card number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9CB2-99B6-4848-B47A-57EB16CD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8135-7257-4173-99EC-2D65FA3C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607E-4DA3-4FA6-99B2-FDED875D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22C-4660-46B4-9C26-4F580AF0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7310-0CE6-4570-AA8E-8D66451F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1A79-7058-4D29-A93F-8B6C1220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FA14-A8E6-420B-8BD9-109275F4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F194-DA9E-409F-83D0-9F51639E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273-1899-478D-85AB-51BC2E70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7C82-8B26-45B4-A892-44359F37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1FE9-0D14-4BBA-914E-E88F6DC3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34B6-A48B-472F-8314-8C1BBC3C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4DC3-B0D6-4B2A-BDF6-832D6F0DB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Server Side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TM 6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Java Server P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request: Reference to the current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response: Response to the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session: session associated woth current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application: Servlet context to which a page belong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pageContext: Object to access request, response, session and application associated with a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config: Servlet configuration for the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out: Object that writes to the response output 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page: instance of the page implementation class (th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exception: Available with JSP pages which are error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Java Implicit Objects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560" y="114264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itle&gt;Implicit Objects&lt;/tit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body style="font-family:verdana;font-size:10pt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Request parameters...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b&gt;Name:&lt;/b&gt;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&lt;%= request.getParameter("name") %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&lt;% out.println("This is printed using the out implicit variable"); %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ng a string to the session...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&lt;% session.setAttribute("name", "Meeraj"); %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ing the string from session...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b&gt;Name:&lt;/b&gt;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&lt;%= session.getAttribute("name") %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Java Implicit Objects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1143000"/>
            <a:ext cx="4343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ng a string to the application...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&lt;% application.setAttribute("name", "Meeraj"); %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ing the string from application...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b&gt;Name:&lt;/b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&lt;%= application.getAttribute("name") %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ng a string to the page context...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&lt;% pageContext.setAttribute("name", "Meeraj"); %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ieving the string from page context...&lt;/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b&gt;Name:&lt;/b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&lt;%= pageContext.getAttribute("name") %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Save fi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5880" indent="-51192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$TOMCAT_HOME/webapps/jsp/Implicit.j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Acces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5880" indent="-51192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http://localhost:8080/jsp/Implicit.jsp?name=Sanj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Results of the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5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Using Request parameters..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Name: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 sanja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5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This is printed using the out implicit variab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5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Storing a string to the session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Retrieving the string from session..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Name: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 Meeraj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5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Storing a string to the application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Retrieving the string from application..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Name: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 Meeraj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58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Storing a string to the page context..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Retrieving the string from page context..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Name: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 Meera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Example Implicit Objects</a:t>
            </a:r>
            <a:r>
              <a:rPr b="1" lang="en-US" sz="3200" spc="-1" strike="noStrike">
                <a:solidFill>
                  <a:srgbClr val="cc0000"/>
                </a:solidFill>
                <a:latin typeface="Arial-BoldMT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ploy &amp;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Messages sent to the JSP contai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920" indent="-5014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Aids the container in page tran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Use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920" indent="-5014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Importing tag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920" indent="-5014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Import required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920" indent="-5014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Set output buffering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920" indent="-5014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Include content from external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The jsp specification defines three dir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920" indent="-5014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Page: provder information about page, such as scripting language that is used, content type, or buffer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920" indent="-5014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Include – used to include the content of external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3920" indent="-5014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Taglib – used to import custom actions defined in tag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irectives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sics &amp;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Page directive sets page properties used during trans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9000" indent="-528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JSP Page can have any number of dir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9000" indent="-528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Import directive can only occur o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9000" indent="-528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Embedded in &lt;%@ and %&gt; delimi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Different directives 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9000" indent="-528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Language: (Default Java) Defines server side scripting language (e.g. ja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9000" indent="-528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Extends: Declares the class which the servlet compiled from JSP needs to 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9000" indent="-528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Import: Declares the packages and classes that need to be imported for using in the java code (comma separated li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9000" indent="-528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Session: (Default true) Boolean which says if the session implicit variable is allowed or 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9000" indent="-5281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Buffer: defines buffer size of the jsp in kilobytes (if set to none no buffering is d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age Directives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sics &amp;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Different directives are (cont’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3120" indent="-496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autoFlush:When true the buffer is flushed when max buffer size is reached (if set to false an exception is thrown when buffer exceeds the lim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3120" indent="-496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isThreadSafe: (default true) If false the compiled servlet implements SingleThreadModel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3120" indent="-496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Info: String returned by the getServletInfo() of the compiled serv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3120" indent="-496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errorPage: Defines the relative URI of web resource to which the response should be forwarded in case of an 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3120" indent="-496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contentType: (Default text/html) Defines MIME type for the output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3120" indent="-496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isErrorPage: True for JSP pages that are defined as error 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3120" indent="-496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pageEncoding: Defines the character encoding for the jsp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age Directives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ypes con’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%@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page language=“java”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buffer=“10kb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autoflush=“tru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errorPage=“/error.js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import=“java.util.*, javax.sql.RowSe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%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age Directives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Used to insert template text and JSP code during the translation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The content of the included file specified by the directive is included in the including JSP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%@ include file=“included.jsp” %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clude Directive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Processed during the request processing ph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5080" indent="-506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As opposed to JSP directives which are processed during trans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Standard actions should be supported by J2EE compliant web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Custom actions can be created using tag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The different actions 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5080" indent="-506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Include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5080" indent="-506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Forward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5080" indent="-506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Param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5080" indent="-506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useBean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5080" indent="-506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getProperty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5080" indent="-50652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setProperty 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5080" indent="-506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plugIn action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JSP Actions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sics &amp;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Include action used for including resources in a JSP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8840" indent="-474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Include directive includes resources in a JSP page at translation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8840" indent="-474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Include action includes response of a resource into the response of the JSP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8840" indent="-474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Same as including resources using RequestDispatch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8840" indent="-474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Changes in the included resource reflected while accessing the p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8840" indent="-474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Normally used for including dynamic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8840" indent="-474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jsp:include page=“inlcudedPage.jsp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8840" indent="-474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Includes the the output of includedPage.jsp into the page where this is inclu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JSP Actions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cl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JSP Fundamen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JSP Scripting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JSP Implicit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JSP Dir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JSP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JSP Example (Loan Calculat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Servlets &amp; JSPs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Tag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Deploying and Running a JSP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-BoldMT"/>
              </a:rPr>
              <a:t>Topic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Forwards the response to other web specification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Same as forwarding to resources using RequestDispatch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Forwarded only when content is not committed to other web application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Otherwise an IllegalStateException is thr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Can be avoided by setting a high buffer size for the forwarding jsp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jsp:forward page=“Forwarded.html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Forwards the request to Forwarded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JSP Actions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r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Used in conjunction with Include &amp; Forward actions to include additional request parameters to the included or forwarded 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jsp:forward page=“Param2.jsp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jsp:param name=“FirstName” value=“Sanjay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/jsp:forwar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This will result in the forwarded resource having an additional parameter FirstName with a value of Sanjay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JSP Actions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a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Creates or finds a Java object with the defined scop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Object is also available in the current JSP as a scripting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Syntax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jsp:useBean id=“nam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scope=“page | request | session | applicatio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class=“className” type=“typeName”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bean=“beanName” type=“typeName”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type=“typeName”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At least one of the type and class attributes must be pres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We can’t specify values for bith the class and bean na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Example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jsp:useBean id=“myName” scope=“request” class=“java.lang.String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% firstName=“Sanjay”;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/jsp:useBea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JSP Actions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seB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getProperty is used in conjunction with useBean to get property values of the bean defined by the useBean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Example (getProper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5880" indent="-511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jsp:getProperty name=“myBean” property=“firstName”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5880" indent="-511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Name corresponds to the id value in the useB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5880" indent="-511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Property refers to the name of the bean proper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setProperty is used to set bean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Example (setProper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5880" indent="-511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jsp:setProperty name=“myBean” property=“firstName”  value=“Sanjay”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5880" indent="-511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Sets the name property of myBean to SanjayExample (setProper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5880" indent="-511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jsp:setProperty name=“myBean” property=“firstName”  param=“fname”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5880" indent="-511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Sets the name property of myBean to the request parameter f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5880" indent="-511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jsp:setProperty name=“myBean” property=“*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5880" indent="-511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Sets property to the corresponding value in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JSP Actions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t/set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Enables the JSP container to render appropriate HTML (based on the browser type)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Initiate the download of the Java plu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Execution of the specified applet or b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plugIn standard action allows the applet to be embedded in a browser neutral fash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jsp: plugin type=“applet” code=“MyApplet.class” codebase=“/”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jsp:param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jsp:param name=“myParam” value=“122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/jsp:param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jsp:fallback&gt;&lt;b&gt;Unable to load applet&lt;/b&gt;&lt;/jsp:fallback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/jsp:plugi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JSP Actions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lu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Example</a:t>
            </a:r>
            <a:r>
              <a:rPr b="1" lang="en-US" sz="3200" spc="-1" strike="noStrike">
                <a:solidFill>
                  <a:srgbClr val="cc0000"/>
                </a:solidFill>
                <a:latin typeface="Arial-BoldMT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oan Calcul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6200" y="1523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x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7800" y="1400040"/>
            <a:ext cx="228600" cy="657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920 h 657360"/>
              <a:gd name="textAreaBottom" fmla="*/ 640440 h 6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5680" y="1420920"/>
            <a:ext cx="10432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.j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.j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25909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ler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7" idx="2"/>
            <a:endCxn id="150" idx="0"/>
          </p:cNvCxnSpPr>
          <p:nvPr/>
        </p:nvCxnSpPr>
        <p:spPr>
          <a:xfrm>
            <a:off x="4533480" y="19047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2209680" y="36576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365760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und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0" idx="2"/>
            <a:endCxn id="152" idx="0"/>
          </p:cNvCxnSpPr>
          <p:nvPr/>
        </p:nvCxnSpPr>
        <p:spPr>
          <a:xfrm rot="5400000">
            <a:off x="3352320" y="2476440"/>
            <a:ext cx="6865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0" idx="2"/>
            <a:endCxn id="153" idx="0"/>
          </p:cNvCxnSpPr>
          <p:nvPr/>
        </p:nvCxnSpPr>
        <p:spPr>
          <a:xfrm flipH="1" rot="16200000">
            <a:off x="5028120" y="2476080"/>
            <a:ext cx="686520" cy="1677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3581280" y="3533760"/>
            <a:ext cx="228600" cy="657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920 h 657360"/>
              <a:gd name="textAreaBottom" fmla="*/ 640440 h 6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87000" y="3554280"/>
            <a:ext cx="10432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er.j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.j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104800" y="3533760"/>
            <a:ext cx="228600" cy="657360"/>
          </a:xfrm>
          <a:custGeom>
            <a:avLst/>
            <a:gdLst>
              <a:gd name="textAreaLeft" fmla="*/ 145800 w 228600"/>
              <a:gd name="textAreaRight" fmla="*/ 228600 w 228600"/>
              <a:gd name="textAreaTop" fmla="*/ 16920 h 657360"/>
              <a:gd name="textAreaBottom" fmla="*/ 640440 h 6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464832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4648320"/>
            <a:ext cx="129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464832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.j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4648320"/>
            <a:ext cx="129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52" idx="2"/>
            <a:endCxn id="159" idx="0"/>
          </p:cNvCxnSpPr>
          <p:nvPr/>
        </p:nvCxnSpPr>
        <p:spPr>
          <a:xfrm rot="5400000">
            <a:off x="2094840" y="3886200"/>
            <a:ext cx="610560" cy="9151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2" idx="2"/>
            <a:endCxn id="160" idx="0"/>
          </p:cNvCxnSpPr>
          <p:nvPr/>
        </p:nvCxnSpPr>
        <p:spPr>
          <a:xfrm flipH="1" rot="16200000">
            <a:off x="2971800" y="3924000"/>
            <a:ext cx="610560" cy="8388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3" idx="2"/>
            <a:endCxn id="161" idx="0"/>
          </p:cNvCxnSpPr>
          <p:nvPr/>
        </p:nvCxnSpPr>
        <p:spPr>
          <a:xfrm rot="5400000">
            <a:off x="5485680" y="3924360"/>
            <a:ext cx="610560" cy="8388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3" idx="2"/>
            <a:endCxn id="162" idx="0"/>
          </p:cNvCxnSpPr>
          <p:nvPr/>
        </p:nvCxnSpPr>
        <p:spPr>
          <a:xfrm flipH="1" rot="16200000">
            <a:off x="6362640" y="3885840"/>
            <a:ext cx="610560" cy="9151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304920" y="1523880"/>
            <a:ext cx="35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Gets input to compute loan from user </a:t>
            </a:r>
            <a:r>
              <a:rPr b="0" lang="en-US" sz="1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2590920"/>
            <a:ext cx="350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elects the right jsp for calculating loan </a:t>
            </a:r>
            <a:r>
              <a:rPr b="0" lang="en-US" sz="14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358128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omputes loan based on simple inter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43000" y="504504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andles error if exception is thr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504504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Handles error if exception is thr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34320" y="358128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Computes loan based on simple inter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itle&gt;Include&lt;/tit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body style="font-family:verdana;font-size:10pt;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&lt;%@ include file="header.html" %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&lt;form action="controller.jsp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able border="0" style="font-family:verdana;font-size:10pt;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d&gt;Amount:&lt;/t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d&gt;&lt;input type="text" name="amount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d&gt;Interest in %:&lt;/t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d&gt;&lt;input type="text" name="interest"/&gt;&lt;/t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d&gt;Compound:&lt;/t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d&gt;&lt;input type="radio" name="type" value="C" checked/&gt;&lt;/t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Loan Calculator</a:t>
            </a:r>
            <a:r>
              <a:rPr b="1" lang="en-US" sz="3200" spc="-1" strike="noStrike">
                <a:solidFill>
                  <a:srgbClr val="cc0000"/>
                </a:solidFill>
                <a:latin typeface="Arial-BoldMT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dex.j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1143000"/>
            <a:ext cx="4343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d&gt;Simple:&lt;/t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d&gt;&lt;input type="radio" name="type" value="S" /&gt;&lt;/t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d&gt;Period:&lt;/t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d&gt;&lt;input type="text" name="period"/&gt;&lt;/t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"submit" value="Calculate"/&gt;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&lt;jsp:include page="footer.jsp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controller.j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&lt;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tring type = request.getParameter("type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f(type.equals("S")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&lt;jsp:forward page="/simple.jsp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&lt;%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&lt;jsp:forward page="/compound.jsp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&lt;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%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Loan Calculator</a:t>
            </a:r>
            <a:r>
              <a:rPr b="1" lang="en-US" sz="3200" spc="-1" strike="noStrike">
                <a:solidFill>
                  <a:srgbClr val="cc0000"/>
                </a:solidFill>
                <a:latin typeface="Arial-BoldMT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iscelan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1143000"/>
            <a:ext cx="4343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error.j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&lt;%@ page isErrorPage="true"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title&gt;Simple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body style="font-family:verdana;font-size:10pt;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&lt;%@ include file="header.html"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&lt;p style="color=#FF0000"&gt;&lt;b&gt;&lt;%= exception.getMessage() %&gt;&lt;/b&gt;&lt;/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&lt;jsp:include page="footer.jsp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html&gt;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header.j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h3&gt;Loan Calculator&lt;/h3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footer.j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&lt;%= new java.util.Date() %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4267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&lt;%@ page errorPage="error.jsp" %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&lt;%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public double calculate(double amount, double interest, int period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f(amount &lt;= 0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hrow new IllegalArgumentException("Amount should be greater than 0: " + amoun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f(interest &lt;= 0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hrow new IllegalArgumentException("Interest should be greater than 0: " + interes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f(period &lt;= 0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hrow new IllegalArgumentException("Period should be greater than 0: " + period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return amount*(1 + period*interest/10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%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Loan Calculator</a:t>
            </a:r>
            <a:r>
              <a:rPr b="1" lang="en-US" sz="3200" spc="-1" strike="noStrike">
                <a:solidFill>
                  <a:srgbClr val="cc0000"/>
                </a:solidFill>
                <a:latin typeface="Arial-BoldMT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imple.j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1143000"/>
            <a:ext cx="4419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itle&gt;Simple&lt;/tit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body style="font-family:verdana;font-size:10pt;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&lt;%@ include file="header.html" %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&lt;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double amount = Double.parseDouble(request.getParameter("amount"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double interest = Double.parseDouble(request.getParameter("interest"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t period = Integer.parseInt(request.getParameter("period"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%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b&gt;Pincipal using simple interest:&lt;/b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&lt;%= calculate(amount, interest, period) %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br/&gt;&lt;br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&lt;jsp:include page="footer.jsp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4267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&lt;%@ page errorPage="error.jsp" %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&lt;%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public double calculate(double amount, double interest, int period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f(amount &lt;= 0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hrow new IllegalArgumentException("Amount should be greater than 0: " + amoun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f(interest &lt;= 0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hrow new IllegalArgumentException("Interest should be greater than 0: " + interest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f(period &lt;= 0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throw new IllegalArgumentException("Period should be greater than 0: " + period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return amount*Math.pow(1 + interest/100, period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%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Loan Calculator</a:t>
            </a:r>
            <a:r>
              <a:rPr b="1" lang="en-US" sz="3200" spc="-1" strike="noStrike">
                <a:solidFill>
                  <a:srgbClr val="cc0000"/>
                </a:solidFill>
                <a:latin typeface="Arial-BoldMT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mpound.j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1143000"/>
            <a:ext cx="4343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itle&gt;Compound&lt;/tit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body style="font-family:verdana;font-size:10pt;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&lt;%@ include file="header.html" %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&lt;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double amount = Double.parseDouble(request.getParameter("amount"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double interest = Double.parseDouble(request.getParameter("interest"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nt period = Integer.parseInt(request.getParameter("period"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%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b&gt;Pincipal using compound interest:&lt;/b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&lt;%= calculate(amount, interest, period) %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br/&gt;&lt;br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&lt;jsp:include page="footer.jsp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ava Server Pages are HTML pages embedded with snippets of Java 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t is an inverse of a Java Serv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Four different elements are used in constructing JSP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cripting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mplicit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ir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Java Server Pages (JSP)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undament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Example</a:t>
            </a:r>
            <a:r>
              <a:rPr b="1" lang="en-US" sz="3200" spc="-1" strike="noStrike">
                <a:solidFill>
                  <a:srgbClr val="cc0000"/>
                </a:solidFill>
                <a:latin typeface="Arial-BoldMT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1523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Serv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259092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st.j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6" idx="2"/>
            <a:endCxn id="187" idx="0"/>
          </p:cNvCxnSpPr>
          <p:nvPr/>
        </p:nvCxnSpPr>
        <p:spPr>
          <a:xfrm>
            <a:off x="4914720" y="19047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25909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Serv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teServ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7" idx="2"/>
            <a:endCxn id="189" idx="0"/>
          </p:cNvCxnSpPr>
          <p:nvPr/>
        </p:nvCxnSpPr>
        <p:spPr>
          <a:xfrm rot="5400000">
            <a:off x="3656880" y="2552400"/>
            <a:ext cx="838800" cy="167724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7" idx="2"/>
            <a:endCxn id="190" idx="0"/>
          </p:cNvCxnSpPr>
          <p:nvPr/>
        </p:nvCxnSpPr>
        <p:spPr>
          <a:xfrm flipH="1" rot="16200000">
            <a:off x="5334120" y="2552400"/>
            <a:ext cx="838800" cy="1676880"/>
          </a:xfrm>
          <a:prstGeom prst="bentConnector3">
            <a:avLst>
              <a:gd name="adj1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2590920" y="44956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it.j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7080" y="4495680"/>
            <a:ext cx="129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Serv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9" idx="2"/>
            <a:endCxn id="193" idx="0"/>
          </p:cNvCxnSpPr>
          <p:nvPr/>
        </p:nvCxnSpPr>
        <p:spPr>
          <a:xfrm flipV="1" rot="10800000">
            <a:off x="3237840" y="41907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7" idx="2"/>
            <a:endCxn id="198" idx="0"/>
          </p:cNvCxnSpPr>
          <p:nvPr/>
        </p:nvCxnSpPr>
        <p:spPr>
          <a:xfrm flipV="1" rot="10800000">
            <a:off x="4914360" y="41907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2438280" y="14479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uns the SQL query for listing inven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2514600"/>
            <a:ext cx="221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Takes the RowSet in the context and render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358128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uns SQL query to get a record from 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502920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uns SQL query to update the data in the item table after ed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38098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"/>
          <p:cNvCxnSpPr>
            <a:stCxn id="197" idx="0"/>
            <a:endCxn id="187" idx="2"/>
          </p:cNvCxnSpPr>
          <p:nvPr/>
        </p:nvCxnSpPr>
        <p:spPr>
          <a:xfrm flipV="1">
            <a:off x="4914720" y="2971440"/>
            <a:ext cx="10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4267080" y="44956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90920" y="525780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dateServ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193" idx="2"/>
            <a:endCxn id="204" idx="0"/>
          </p:cNvCxnSpPr>
          <p:nvPr/>
        </p:nvCxnSpPr>
        <p:spPr>
          <a:xfrm flipV="1" rot="10800000">
            <a:off x="3237840" y="4876560"/>
            <a:ext cx="108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0" idx="3"/>
            <a:endCxn id="186" idx="3"/>
          </p:cNvCxnSpPr>
          <p:nvPr/>
        </p:nvCxnSpPr>
        <p:spPr>
          <a:xfrm flipH="1" flipV="1">
            <a:off x="5562360" y="1714320"/>
            <a:ext cx="1676880" cy="2286720"/>
          </a:xfrm>
          <a:prstGeom prst="bentConnector3">
            <a:avLst>
              <a:gd name="adj1" fmla="val -136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6" idx="3"/>
          </p:cNvCxnSpPr>
          <p:nvPr/>
        </p:nvCxnSpPr>
        <p:spPr>
          <a:xfrm flipV="1">
            <a:off x="5562720" y="1713960"/>
            <a:ext cx="2160" cy="2972520"/>
          </a:xfrm>
          <a:prstGeom prst="bentConnector3">
            <a:avLst>
              <a:gd name="adj1" fmla="val 1199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204" idx="3"/>
            <a:endCxn id="186" idx="3"/>
          </p:cNvCxnSpPr>
          <p:nvPr/>
        </p:nvCxnSpPr>
        <p:spPr>
          <a:xfrm flipV="1">
            <a:off x="3885840" y="1713960"/>
            <a:ext cx="1677240" cy="3734280"/>
          </a:xfrm>
          <a:prstGeom prst="bentConnector3">
            <a:avLst>
              <a:gd name="adj1" fmla="val 21380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457200" y="426708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Takes a RowSet and renders a form for ed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467480" y="358128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Deletes a record from the item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489276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uns SQL query to create new re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33526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Renders form for new 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age edu.albany.mis.goel.servlet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x.servlet.ServletExceptio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x.servlet.ServletConfi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x.servlet.http.HttpServle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x.servlet.http.HttpServletReque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x.servlet.http.HttpServletRespons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x.sql.DataSourc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x.sql.RowSe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sun.jdbc.rowset.CachedRowSe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class ListServlet extends HttpServlet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void init(ServletConfig config) throws ServletException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.init(config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void doPost(HttpServletRequest req, HttpServletResponse 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s ServletException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et(req, re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ventory </a:t>
            </a:r>
            <a:r>
              <a:rPr b="1" lang="en-US" sz="3200" spc="-1" strike="noStrike">
                <a:solidFill>
                  <a:srgbClr val="cc0000"/>
                </a:solidFill>
                <a:latin typeface="Arial-BoldMT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istServ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1143000"/>
            <a:ext cx="4343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void doGet(HttpServletRequest req, HttpServletResponse 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s ServletException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Load the driver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.forName("sun.jdbc.odbc.JdbcOdbcDriver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Define the data source for the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ng sourceURL = "jdbc:odbc:inventoryDB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wSet rs = new CachedRowSe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.setUrl(sourceURL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.setCommand("select * from item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.execute();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.setAttribute("rs", rs);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ServletContext().getRequestDispatcher("/List.jsp"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ward(req, res);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 catch(Exception ex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new ServletException(ex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kage edu.albany.mis.goel.servlet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x.servlet.ServletExceptio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x.servlet.ServletConfi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x.servlet.http.HttpServle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x.servlet.http.HttpServletReque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x.servlet.http.HttpServletRespons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.sql.DriverManag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x.sql.DataSourc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x.sql.RowSe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sun.jdbc.rowset.CachedRowSe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class EditServlet extends HttpServlet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void init(ServletConfig config) throws ServletException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.init(config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void doPost(HttpServletRequest req, HttpServletResponse 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s ServletException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et(req, re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ventory </a:t>
            </a:r>
            <a:r>
              <a:rPr b="1" lang="en-US" sz="3200" spc="-1" strike="noStrike">
                <a:solidFill>
                  <a:srgbClr val="cc0000"/>
                </a:solidFill>
                <a:latin typeface="Arial-BoldMT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ditServ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1143000"/>
            <a:ext cx="4343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void doGet(HttpServletRequest req, HttpServletResponse 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s ServletException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Load the driver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.forName("sun.jdbc.odbc.JdbcOdbcDriver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Define the data source for the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ng sourceURL = "jdbc:odbc:inventoryDB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wSet rs = new CachedRowSe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.setUrl(sourceURL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.setCommand("select * from item where id = ?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.setInt(1, Integer.parseInt(req.getParameter("id"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.execute();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.setAttribute("rs", r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ServletContext().getRequestDispatcher("/Edit.jsp").forward(req, re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 catch(Exception ex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new ServletException(ex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ckage edu.albany.mis.goel.servlets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 javax.servlet.ServletException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 javax.servlet.ServletConfig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 javax.servlet.http.HttpServle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 javax.servlet.http.HttpServletReques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 javax.servlet.http.HttpServletResponse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 javax.sql.DataSource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 javax.naming.InitialContex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 java.sql.DriverManager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 java.sql.Connection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 java.sql.PreparedStatemen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ort java.sql.ResultSe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class UpdateServlet extends HttpServlet 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void init(ServletConfig config) throws ServletException 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per.init(config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void doPost(HttpServletRequest req, HttpServletResponse r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rows ServletException 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Get(req, res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void doGet(HttpServletRequest req, HttpServletResponse r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rows ServletException 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nection con = null;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// Load the driver cla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ass.forName("sun.jdbc.odbc.JdbcOdbcDriver"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// Define the data source for the dri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ring sourceURL = "jdbc:odbc:inventoryDB"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ventory </a:t>
            </a:r>
            <a:r>
              <a:rPr b="1" lang="en-US" sz="3200" spc="-1" strike="noStrike">
                <a:solidFill>
                  <a:srgbClr val="cc0000"/>
                </a:solidFill>
                <a:latin typeface="Arial-BoldMT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UpdateServ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1143000"/>
            <a:ext cx="4343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// Create a connection through the DriverManager cla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 = DriverManager.getConnection(sourceURL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ystem.out.println("Connected Connection"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eparedStatement stmt= con.prepareState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"update item " +  "set name = ?, " + "description = ?, " + "price = ?, "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  "stock = ? " + "where id = ?"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mt.setString(1, req.getParameter("name")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mt.setString(2, req.getParameter("description")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mt.setDouble(3, Double.parseDouble(req.getParameter("price"))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mt.setInt(4, Integer.parseInt(req.getParameter("stock"))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mt.setInt(5, Integer.parseInt(req.getParameter("id"))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mt.executeUpdate();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mt.close();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tServletContext().getRequestDispatcher("/List")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ward(req, res);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} catch(Exception ex) 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row new ServletException(ex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} finally 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f(con != null) 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.close(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} catch(Exception ex) 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row new ServletException(ex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ckage edu.albany.mis.goel.servlet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ort javax.servlet.ServletExceptio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ort javax.servlet.ServletConfig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ort javax.servlet.http.HttpServle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ort javax.servlet.http.HttpServletReques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ort javax.servlet.http.HttpServletRespons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ort javax.sql.DataSourc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ort javax.naming.InitialContex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ort java.sql.Connectio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ort java.sql.DriverManager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ort java.sql.PreparedStatemen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ort java.sql.ResultSe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class DeleteServlet extends HttpServlet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void init(ServletConfig config) throws ServletException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.init(config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void doPost(HttpServletRequest req, HttpServletResponse r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ows ServletException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Get(req, re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void doGet(HttpServletRequest req, HttpServletResponse r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ows ServletException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ion con = nul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ventory </a:t>
            </a:r>
            <a:r>
              <a:rPr b="1" lang="en-US" sz="3200" spc="-1" strike="noStrike">
                <a:solidFill>
                  <a:srgbClr val="cc0000"/>
                </a:solidFill>
                <a:latin typeface="Arial-BoldMT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leteServ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1143000"/>
            <a:ext cx="4343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/ Load the driver 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.forName("sun.jdbc.odbc.JdbcOdbcDriver"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/ Define the data source for the dr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ing sourceURL = "jdbc:odbc:inventoryDB"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/ Create a connection through the DriverManager 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 = DriverManager.getConnection(sourceUR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.out.println("Connected Connection"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/ Create Statem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paredStatement stmt =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.prepareStatement("delete from item where id = ?"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mt.setInt(1, Integer.parseInt(req.getParameter("id")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mt.executeUpdate();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mt.close();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ServletContext().getRequestDispatcher("/List"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ward(req, res);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 catch(Exception ex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ow new ServletException(ex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 finally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(con != null) con.clos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 catch(Exception ex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ow new ServletException(ex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ckage edu.albany.mis.goel.servlet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ort javax.servlet.ServletExceptio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ort javax.servlet.ServletConfig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ort javax.servlet.http.HttpServle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ort javax.servlet.http.HttpServletReques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ort javax.servlet.http.HttpServletRespons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ort javax.sql.DataSourc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ort javax.naming.InitialContex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ort java.sql.DriverManager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ort java.sql.Connectio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ort java.sql.PreparedStatemen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ort java.sql.ResultSe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class CreateServlet extends HttpServlet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void init(ServletConfig config) throws ServletException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.init(config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void doPost(HttpServletRequest req, HttpServletResponse r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ows ServletException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Get(req, re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void doGet(HttpServletRequest req, HttpServletResponse r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ows ServletException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ion con = nul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y { // Load the driver 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.forName("sun.jdbc.odbc.JdbcOdbcDriver"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ventory </a:t>
            </a:r>
            <a:r>
              <a:rPr b="1" lang="en-US" sz="3200" spc="-1" strike="noStrike">
                <a:solidFill>
                  <a:srgbClr val="cc0000"/>
                </a:solidFill>
                <a:latin typeface="Arial-BoldMT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reateServ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1143000"/>
            <a:ext cx="4343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/ Define the data source for the dr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ing sourceURL = "jdbc:odbc:inventoryDB"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/ Create a connection through the DriverManager cl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 = DriverManager.getConnection(sourceUR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.out.println("Connected Connection"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paredStatement stmt = con.prepareStat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"insert into item " + "(name,description,price,stock) " +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"values (?, ?, ?, ?)"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mt.setString(1, req.getParameter("name"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mt.setString(2, req.getParameter("description"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mt.setDouble(3, Double.parseDouble(req.getParameter("price")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mt.setInt(4, Integer.parseInt(req.getParameter("stock")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mt.executeUpdate();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mt.close();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ServletContext().getRequestDispatcher("/List").forward(req, res);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 catch(Exception ex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ow new ServletException(ex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 finally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y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(con != null) con.clos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 catch(Exception ex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ow new ServletException(ex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%@page contentType="text/html"%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jsp:useBean id="rs" scope="request" type="javax.sql.RowSet" 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itle&gt;Inventory - Edit&lt;/tit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body style="font-family:verdana;font-size:10pt;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(rs.next()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rm action="Update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nput name="id" type="hidden" value="&lt;%= rs.getString(1) %&gt;"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able cellpadding="5" style="font-family:verdana;font-size:10pt;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d&gt;&lt;b&gt;Name:&lt;/b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nput name="name" type="text" value="&lt;%= rs.getString(2) %&gt;"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d&gt;&lt;b&gt;Description:&lt;/b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nput name="description" type="text" value="&lt;%= rs.getString(3) %&gt;"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ventory </a:t>
            </a:r>
            <a:r>
              <a:rPr b="1" lang="en-US" sz="3200" spc="-1" strike="noStrike">
                <a:solidFill>
                  <a:srgbClr val="cc0000"/>
                </a:solidFill>
                <a:latin typeface="Arial-BoldMT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dit.j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8320" y="1143000"/>
            <a:ext cx="4343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d&gt;&lt;b&gt;Price:&lt;/b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nput name="price" type="text" value="&lt;%= rs.getString(4) %&gt;"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d&gt;&lt;b&gt;Stock:&lt;/b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nput name="stock" type="text" value="&lt;%= rs.getString(5) %&gt;"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d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input type="submit" value="Update"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%@page contentType="text/html"%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jsp:useBean id="rs" scope="request" type="javax.sql.RowSet" /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itle&gt;Inventory - List&lt;/tit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body style="font-family:verdana;font-size:10pt;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able cellpadding="5" style="font-family:verdana;font-size:10pt;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h&gt;Name&lt;/t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h&gt;Description&lt;/t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h&gt;Price&lt;/t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h&gt;Stock&lt;/t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h&gt;&lt;/t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h&gt;&lt;/t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ile(rs.next()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ventory </a:t>
            </a:r>
            <a:r>
              <a:rPr b="1" lang="en-US" sz="3200" spc="-1" strike="noStrike">
                <a:solidFill>
                  <a:srgbClr val="cc0000"/>
                </a:solidFill>
                <a:latin typeface="Arial-BoldMT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dit.j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48320" y="1143000"/>
            <a:ext cx="4343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d&gt;&lt;%= rs.getString(2) %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d&gt;&lt;%= rs.getString(3) %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d&gt;&lt;%= rs.getString(4) %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d&gt;&lt;%= rs.getString(5) %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a href="Delete?id=&lt;%= rs.getString(1) %&gt;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a href="Edit?id=&lt;%= rs.getString(1) %&gt;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a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a href="New.html"&gt;New Item&lt;/a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8240" y="114264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itle&gt;Inventory - Add New Item&lt;/tit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body style="font-family:verdana;font-size:10pt;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rm action="Create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able cellpadding="5" style="font-family:verdana;font-size:10pt;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d&gt;&lt;b&gt;Name:&lt;/b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d&gt;&lt;input name="name" type="text"/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d&gt;&lt;b&gt;Description:&lt;/b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d&gt;&lt;input name="description" type="text"/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d&gt;&lt;b&gt;Price:&lt;/b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d&gt;&lt;input name="price" type="text"/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d&gt;&lt;b&gt;Stock:&lt;/b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d&gt;&lt;input name="stock" type="text"/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ventory </a:t>
            </a:r>
            <a:r>
              <a:rPr b="1" lang="en-US" sz="3200" spc="-1" strike="noStrike">
                <a:solidFill>
                  <a:srgbClr val="cc0000"/>
                </a:solidFill>
                <a:latin typeface="Arial-BoldMT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ew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48320" y="1143000"/>
            <a:ext cx="4343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d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td&gt;&lt;input type="submit" value="Create"/&gt;&lt;/td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4267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JSPs run in two ph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7040" indent="-517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Translation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7040" indent="-517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Execution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In translation phase JSP page is compiled into a serv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7040" indent="-517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called JSP Page Implementatio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In execution phase the compliled JSP is proc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Java Server Pages (JSP)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rchitec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876920" y="1143000"/>
            <a:ext cx="4038480" cy="5334120"/>
            <a:chOff x="4876920" y="1143000"/>
            <a:chExt cx="4038480" cy="5334120"/>
          </a:xfrm>
        </p:grpSpPr>
        <p:sp>
          <p:nvSpPr>
            <p:cNvPr id="57" name=""/>
            <p:cNvSpPr/>
            <p:nvPr/>
          </p:nvSpPr>
          <p:spPr>
            <a:xfrm>
              <a:off x="4876920" y="1143000"/>
              <a:ext cx="3962160" cy="5334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41800" y="1854360"/>
              <a:ext cx="3640320" cy="388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76800" y="2103480"/>
              <a:ext cx="3349800" cy="2512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76800" y="4746600"/>
              <a:ext cx="3349800" cy="8892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608800" y="5908680"/>
              <a:ext cx="1176120" cy="496800"/>
            </a:xfrm>
            <a:prstGeom prst="parallelogram">
              <a:avLst>
                <a:gd name="adj" fmla="val 591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spon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08800" y="1214280"/>
              <a:ext cx="1176120" cy="497160"/>
            </a:xfrm>
            <a:prstGeom prst="parallelogram">
              <a:avLst>
                <a:gd name="adj" fmla="val 5914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ceiv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5608800" y="3881520"/>
              <a:ext cx="1176120" cy="496800"/>
              <a:chOff x="5608800" y="3881520"/>
              <a:chExt cx="1176120" cy="496800"/>
            </a:xfrm>
          </p:grpSpPr>
          <p:sp>
            <p:nvSpPr>
              <p:cNvPr id="64" name=""/>
              <p:cNvSpPr/>
              <p:nvPr/>
            </p:nvSpPr>
            <p:spPr>
              <a:xfrm>
                <a:off x="5608800" y="3881520"/>
                <a:ext cx="1176120" cy="4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Load Servl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702040" y="3881520"/>
                <a:ext cx="0" cy="49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691320" y="3881520"/>
                <a:ext cx="0" cy="49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224840" y="3881520"/>
              <a:ext cx="1176120" cy="496800"/>
              <a:chOff x="7224840" y="3881520"/>
              <a:chExt cx="1176120" cy="496800"/>
            </a:xfrm>
          </p:grpSpPr>
          <p:sp>
            <p:nvSpPr>
              <p:cNvPr id="68" name=""/>
              <p:cNvSpPr/>
              <p:nvPr/>
            </p:nvSpPr>
            <p:spPr>
              <a:xfrm>
                <a:off x="7224840" y="3881520"/>
                <a:ext cx="1176120" cy="4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mpile JS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ervl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318080" y="3881520"/>
                <a:ext cx="0" cy="49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307360" y="3881520"/>
                <a:ext cx="0" cy="49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7224840" y="3181320"/>
              <a:ext cx="1176120" cy="498600"/>
              <a:chOff x="7224840" y="3181320"/>
              <a:chExt cx="1176120" cy="498600"/>
            </a:xfrm>
          </p:grpSpPr>
          <p:sp>
            <p:nvSpPr>
              <p:cNvPr id="72" name=""/>
              <p:cNvSpPr/>
              <p:nvPr/>
            </p:nvSpPr>
            <p:spPr>
              <a:xfrm>
                <a:off x="7224840" y="3181320"/>
                <a:ext cx="1176120" cy="49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Generate JS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ervlet Sour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318080" y="3181320"/>
                <a:ext cx="0" cy="49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307360" y="3181320"/>
                <a:ext cx="0" cy="49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7224840" y="2422440"/>
              <a:ext cx="1176120" cy="498600"/>
              <a:chOff x="7224840" y="2422440"/>
              <a:chExt cx="1176120" cy="498600"/>
            </a:xfrm>
          </p:grpSpPr>
          <p:sp>
            <p:nvSpPr>
              <p:cNvPr id="76" name=""/>
              <p:cNvSpPr/>
              <p:nvPr/>
            </p:nvSpPr>
            <p:spPr>
              <a:xfrm>
                <a:off x="7224840" y="2422440"/>
                <a:ext cx="1176120" cy="49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rse JS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318080" y="2422440"/>
                <a:ext cx="0" cy="49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307360" y="2422440"/>
                <a:ext cx="0" cy="49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5608800" y="2387520"/>
              <a:ext cx="1176120" cy="5684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JSP Servl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urrent?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608800" y="3098880"/>
              <a:ext cx="1176120" cy="5680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JSP Servl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Loaded?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5608800" y="4948200"/>
              <a:ext cx="1176120" cy="496800"/>
              <a:chOff x="5608800" y="4948200"/>
              <a:chExt cx="1176120" cy="496800"/>
            </a:xfrm>
          </p:grpSpPr>
          <p:sp>
            <p:nvSpPr>
              <p:cNvPr id="82" name=""/>
              <p:cNvSpPr/>
              <p:nvPr/>
            </p:nvSpPr>
            <p:spPr>
              <a:xfrm>
                <a:off x="5608800" y="4948200"/>
                <a:ext cx="1176120" cy="496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Gener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espon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702040" y="4948200"/>
                <a:ext cx="0" cy="49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691320" y="4948200"/>
                <a:ext cx="0" cy="49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7813800" y="2944800"/>
              <a:ext cx="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13800" y="366696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84920" y="2671920"/>
              <a:ext cx="4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195960" y="1711440"/>
              <a:ext cx="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95960" y="295596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5960" y="3666960"/>
              <a:ext cx="0" cy="2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95960" y="43783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59600" y="4510080"/>
              <a:ext cx="74520" cy="69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95960" y="4592520"/>
              <a:ext cx="0" cy="35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784920" y="4118040"/>
              <a:ext cx="4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95960" y="5445000"/>
              <a:ext cx="0" cy="45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" name=""/>
            <p:cNvCxnSpPr>
              <a:stCxn id="80" idx="1"/>
              <a:endCxn id="92" idx="2"/>
            </p:cNvCxnSpPr>
            <p:nvPr/>
          </p:nvCxnSpPr>
          <p:spPr>
            <a:xfrm flipH="1" flipV="1" rot="10800000">
              <a:off x="5608440" y="3382920"/>
              <a:ext cx="551520" cy="1162440"/>
            </a:xfrm>
            <a:prstGeom prst="bentConnector3">
              <a:avLst>
                <a:gd name="adj1" fmla="val -3997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" name=""/>
            <p:cNvSpPr/>
            <p:nvPr/>
          </p:nvSpPr>
          <p:spPr>
            <a:xfrm>
              <a:off x="6086520" y="2913120"/>
              <a:ext cx="66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35600" y="2459160"/>
              <a:ext cx="49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32600" y="3660840"/>
              <a:ext cx="49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41960" y="3632040"/>
              <a:ext cx="660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38920" y="1214280"/>
              <a:ext cx="117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TTP Serv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31200" y="1882800"/>
              <a:ext cx="117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JSP Contain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84920" y="2103480"/>
              <a:ext cx="1909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age Compiler Servl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73800" y="4751280"/>
              <a:ext cx="132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JSP Page Servl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There are three kinds of scripting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Script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cripting Elements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Declarations are used to define methods &amp; instanc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Do not produce any output that is sent to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Embedded in &lt;%! and %&gt; delimi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%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6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Public void jspDestroy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6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System.out.println(“JSP Destroyed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6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6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Public void jspInit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6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System.out.println(“JSP Loaded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6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66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int myVar = 12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  <a:ea typeface="Arial Unicode MS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The functions and variables defined are available to the JSP Page as well as to the servlet in which it is compi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eclarations 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sed to embed java code in JSP p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ntents of JSP go into _JSPpageservice()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de should comply with syntactical and semantic constuct of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mbedded in &lt;% and %&gt; delimi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66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t x = 5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66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t y = 7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6692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t z = x + 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criptlets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Used to write dynamic content back to the brow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1960" indent="-490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If the output of expression is Java primitive the value is printed back to the 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1960" indent="-490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If the output is an object then the result of calling toString on the object is output to the 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1960" indent="-490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Embedded in &lt;%= and %&gt; delimi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1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1960" indent="-490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%=“Fred”+ “ “ + “Flintstone %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prints “Fred Flintstone” to the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1960" indent="-490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&lt;%=Math.sqrt(100)%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11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Arial Unicode MS"/>
              </a:rPr>
              <a:t>prints 10 to the 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Expressions</a:t>
            </a:r>
            <a:r>
              <a:rPr b="1" lang="en-US" sz="3600" spc="-1" strike="noStrike">
                <a:solidFill>
                  <a:srgbClr val="cc0000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Implicit objects provide access to server side obje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e.g. request, response, session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Arial Unicode MS"/>
              </a:rPr>
              <a:t>There are four scopes of the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Page: Objects can only be accessed in the page where they are refere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Request: Objects can be accessed within all pages that serve the current requ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(Including the pages that are forwarded to and included in the original jsp p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Session: Objects can be accessed within the JSP pages for which the objects are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016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  <a:ea typeface="Arial Unicode MS"/>
              </a:rPr>
              <a:t>Application: Objects can be accessed by all JSP pages in a given 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Java Implicit Objects</a:t>
            </a:r>
            <a:r>
              <a:rPr b="1" lang="en-US" sz="4400" spc="-1" strike="noStrike">
                <a:solidFill>
                  <a:srgbClr val="cc0000"/>
                </a:solidFill>
                <a:latin typeface="Arial-BoldMT"/>
              </a:rPr>
              <a:t> </a:t>
            </a:r>
            <a:br>
              <a:rPr sz="4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0T12:40:14Z</dcterms:created>
  <dc:creator>GE CRD</dc:creator>
  <dc:description/>
  <dc:language>en-US</dc:language>
  <cp:lastModifiedBy> </cp:lastModifiedBy>
  <dcterms:modified xsi:type="dcterms:W3CDTF">2005-08-28T17:49:50Z</dcterms:modified>
  <cp:revision>175</cp:revision>
  <dc:subject/>
  <dc:title>PowerPoint Presentation</dc:title>
</cp:coreProperties>
</file>